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chimes.wav" ContentType="audio/x-wav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50E49-D8F5-481A-A308-1E0BB1499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8A5D6-5158-4238-9E28-4A9963BC3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F53B80-6420-4C60-A939-6F5B27AED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CC1339-E38D-48B0-8D61-CA5EA1B28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A492E2-DDE5-4997-AF9A-14ADD14FE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A48495-6202-4470-8B42-6A11F548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B60F5E-EB1F-40ED-ABA8-3547AB46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E90D96-16A7-4FC0-95A9-7A5625A7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3616C2-33AF-42AA-B2E1-DAAE556D6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D82E6F-4688-46EC-A4E4-D8848FB02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6F2BAE-2182-4343-B7E6-A31C0B7D8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6E186D-F670-4D09-8C79-C6E5DB38F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390E7-9997-4518-BC28-D5BB7D13E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9C2E49-62D6-450F-B8F8-99E387D6F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42C844-212F-4437-95EE-203403E9C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05E1D5-4505-462F-BB33-A93B0BDB6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CD4CEE-9674-4EEF-9554-FEB64B157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41BED5-2700-4832-B466-8023DBCA1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EC7495-8DC8-4341-91AB-B0288B4F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324592-AE3D-4C08-8F7A-F93BD1DB8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538410-B0F9-442A-B36E-0AAC272A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7A1A13-D83B-493D-9200-596C2A19A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F1B307-3C42-42D1-B0D8-9B6087064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3279F-EF8F-4992-A88E-F09108A79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3E6DE3-51FA-4C3A-AC94-871619AD7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F88A3A-C39B-4DF7-8A8A-0F326302F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9601B3-800C-408A-B311-F541482C6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9DA676-1AB6-4125-BF4E-C145BF1E9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E9D9F5-1885-4BD3-A3E0-E18C63CB7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DDA638-6CA3-4DD1-8080-16F3E5CF2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618ADF-2AE3-47BB-B9D7-6836526F0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FB1787-171E-4075-8F3C-84842E5EB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49B987-3C2B-4396-8978-22DEE56ED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595C9D-2550-4015-BA4D-62BB1DC07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455F4-F695-47FF-B45C-672B889F2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2CDF0C-39B9-4C0D-8116-2DDE3E252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9C8ABE-C7DC-43BE-B5A9-F47D2C538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6FDAF0-2604-4652-864D-8B3F1A8CF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C80D0C-CB93-4AE0-9E17-D8467A058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C3300A-A602-4A9F-9ABD-5A0906C2B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363EB0-99EC-4E05-A57A-2A1B9E37A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13413A-2B4A-44EC-BFCB-554011152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BED289-3DAA-41CF-9D3D-1E9BFFBE4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7B9877-D89A-42A5-86EA-B5FB0AE2E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2A5296-5127-40E9-897E-F0DED3968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00FF2-2F0F-45AF-BF34-B34732B4D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EAD6CB-000F-4FD7-8EFE-47A76D7A1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E16EE8-61DA-4150-AEF8-C4A22E39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A818AC-C09A-446D-ADE6-DDC71A2BC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6305B2-801A-4CB1-BF26-01C03588E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993490-66F6-4038-928A-9C08B458D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8CFEE2-7D65-4D17-A76D-68EB849B2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9847D8-2925-42E1-A86D-8BA15256B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3D2D80-EF60-4755-8715-945EF506F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DAC2DE-8EE3-4751-8914-B71CC6E11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A3964F-2853-494E-8946-9AC287789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9917B-23D2-44F0-8FAF-319B4FF25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0F61C7-745F-4580-B159-8D1DC5649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A74F48-C665-4E51-9EA4-469A2D2E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7924B6-DA22-4630-B7CC-FE0B8D10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678FC9-3080-4F08-9717-4A52FC605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AACDB4-F22A-47FF-BBE5-88306467B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287556-2E11-4B4A-B973-BA579C26C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D9808E-4EF5-4A4D-BF4A-61A5C65AC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53BFB7-E098-4458-92A2-F5A011582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9914DD-35E2-4E18-97B1-FACAE19EE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B32742-A057-497E-A6FB-A5FA1C015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AC3DD-5B95-42B5-B7F2-D1E408F94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343E66-C914-4A8B-8773-E8804ECE0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A14BF5-59D4-4401-B355-68D0FA9E5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56A74F-299D-4E04-9957-D02399057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18F2C5-C2C8-42EB-9A1C-7626766DC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17E3F3-9FAC-4E2D-BD3A-6CD4770D3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A28681-4CAE-4B16-9859-690DEF4D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E62721-FF6E-476E-B343-41788DE72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149143-2ED0-4872-997E-DB6486EEA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C0E973-03DF-4905-ADD5-BE3C01F7F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60FB81-C832-434E-93E6-35E904D43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8D9FC-E320-44C3-97D3-2B3CAD0FA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EEDC0F-9F39-4E07-BBA6-90886450D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3989AF-1185-40CC-8F22-34F9CFFB8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16B7AF-6C3E-4AB1-86A5-DE28FFC44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BD066A-1E0F-46C7-BB78-19E387815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675C48-08D1-4E81-9F64-BCBA98E87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581BB3-27F7-4208-8460-F23746CAE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6E5300-55F4-4B5E-A88A-7F636D0F4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908FCF-8D37-47FD-94BE-1343D422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2F5353-3222-47D1-8FEB-325B36863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D6737D-4338-4112-9C16-119F12264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6404B-8A7C-4116-B90F-27D75D6F3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4E052A-7AA1-435C-94A5-DECEFE787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3685BD-E969-44E3-B06A-8664D80F3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39144F-A591-47F0-BDEE-DEF378242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404886-34D1-485B-ACEE-B3E6973CF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777C86-639D-45A1-A7C7-109B845B0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9A90E0-DA90-418A-899B-56E03202F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901772-3D8D-4F08-9794-55BCE0312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D2023B-E503-4C42-9AE0-ED8429D8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FC3199-2E38-46B5-BF6F-CAD3D2EB9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389038-50C2-420F-A8E5-C9513A14A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4EC89-858D-4395-9FCD-AE6B4F014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A26FD6-7340-4856-9BDF-23629A3F5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C37501-E701-46A2-BF5F-F2DCCCE3D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C86C1A-BA4E-4D9B-88BE-45E8CC659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C396B-6096-401B-9ECA-1B6E88ED4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05224-3195-4514-839E-05EA87547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7B86A-1B04-493E-B998-A21D6323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E829B-7292-4234-9613-18F18AA69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7D0DC-2D2D-4109-86F6-8E0D5A328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35C36-B294-47E1-9310-9B1322945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2D28A-F468-4B23-9261-07B8D16B1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48519-D590-4285-960A-A581F36D7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74336-7E9F-4849-9726-50F29D41C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24762-1954-431E-9198-150FDFFCC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34062-77B1-437A-A8CB-860AC9A7A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365AE-38E9-4408-A2D4-9977E3DA8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6A320-B829-49DA-BEBF-34AE79EDE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6111B-872F-44CB-9C20-D8A86F613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9E0F7-D42B-4A63-8C9C-A84DA92D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A3935-F2D6-4EEE-9DCD-9DD00253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E7D61-6A35-4219-A099-9FBDA1F4D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8E3FF-FDA5-46A5-A4AF-5AC1BB0DC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906BB-CE1F-460F-808A-141B961B1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636C4-FF79-4906-9499-5E49DB299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4C41F-0267-482A-9485-FF2C9BD03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81304-D94B-4D2D-8D5A-2D64C58E3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0A5D3-B072-4AFD-949A-4F434ACBB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9F9B3-60C9-463E-BDD5-E4BBD6DBC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74D46-BFE6-47CF-A636-BFE943B4F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5CCA0-F37B-4037-9952-55A957508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7CD70-6336-4E5F-96A7-E76E3450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40B76-177E-4DB0-A186-328A4075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CCDB3-B181-4230-8B51-95CCCFE4B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C0CFC-0E0A-4656-B4B1-2453696C1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88C5E-F56A-40C2-8670-BC0E925C5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E295B-ACFC-46BC-8A94-4E463A8B2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6A5573-7FF1-48CA-9728-A40B437F0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B207F-2BF8-4394-A006-1E6875E6C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CCCD31-8766-4631-A9FA-866D107BC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F3943-775A-43E5-978A-66BCF75EB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08B6FC-7BAB-492D-9A41-87B342331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6CC18-2A0F-4A00-9CFD-5125DCAB3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48D310-0748-4C6D-BCE9-292715ACE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5996A-061B-4F66-B76B-5C6C64C84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35C8E-69F8-45B5-90E6-0C4516E8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F1F22B-F2B2-43B0-876E-55BF88252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677F46-7B9D-47C8-A6E5-5C34EAB94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41D46-1EC6-42A1-AB9C-85C08A50E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1C14A-3637-4CAC-97AD-12688BD54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153F5-0FF7-49AB-927C-5A1AA4EFA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DAC026-AD21-4E23-BDF8-DEE8C4A56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4DB97A-A4F2-4533-B34F-FF0F4CE4D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F00298-20F5-4C21-9226-3C5054FC2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F5AC86-0B6A-4119-B9C6-4B3C0A0D6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936E15-B4CC-438D-8700-211A92194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4E592C-54A0-48A4-9C80-F69FD2E03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9E41EE-CE61-4D3B-8C71-C70B731B8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F407C8-ADED-4BA0-8995-2123E6445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C83D94-B17A-4DFB-8423-C840285D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908B7-D495-4F5E-AA08-28274D7D4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930A31-BCE9-454B-BA50-B0E999E9A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9068CB-F5C5-4BDB-BB13-9460CBC3F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419FAC-DCF8-4A3E-BF9D-17C60B3BA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ADAE14-FA87-4F9C-A06C-951CD9CFA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29F03F-160B-4A27-BB40-6BB6578B8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26AC21-CF3D-4C9C-B324-107F65160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6201A0-A222-4587-B203-937C24EDC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7C79C8-3160-44F5-9116-5BA0F1072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338575-92E3-4506-B45F-17901587D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9C7832-C1A3-4E4F-ACEB-FB921B60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F7CD9-31AC-476D-AC3D-4362CCD1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4AAB02-06C6-4F88-A377-EFD4BA06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E9D626-7C14-403D-A273-02204DBE0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4960DF-0EDC-4E14-BC6D-2DD48C9B7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E6AB36-BC4B-46BA-B63A-07E0351E9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95A8E9-4556-4DC7-9B46-4C8F9FDFD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B773FF5-66AE-467E-805C-7238B6D36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0684A50-7E77-4A70-BED8-7094D144D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7EB87AA-B734-442F-A1D8-4FA7F8D26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9608F3F-9BE2-4200-B866-FF919347E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2C7B22-10BE-409D-9E4F-53B699613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589EA-0D77-46D7-89D4-32AC1C1B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D1412F8-27CA-41EF-9AA1-4DA563415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5FB497F-3AD3-45FD-974D-AAE1E2E7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C07747-BD90-4133-843D-C59CDDB3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53B2D48-D3C9-4C45-AAE4-459D30CE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B94D2BC-1CBE-46AD-82D6-047AD7155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0DC5F93-CB5A-4D30-8C15-E064A0341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B6DF651-F47E-483A-B73B-A1F7972F1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232663-EF00-41FB-A6AA-B34EEB01B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2B0ED2-625F-4D05-9B83-A04FF7FC6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6EF3E3-E8D6-4F6D-BDBD-EA53D5A6E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51E1E-DEDE-4358-BDF7-47F6D51A9508}" type="slidenum">
              <a:rPr b="0" lang="ar-SA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dt" idx="28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4CC68-92A4-4621-983D-297D68023FE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759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179C2-9047-47AB-AA6A-85A952545CA2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5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816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1C35E-D2C4-4972-8D58-360B4D32626E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1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872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3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3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3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0E9BF-73F9-4809-8974-FF98B254AD18}" type="slidenum">
              <a:rPr b="0" lang="ar-S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7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948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2" name="PlaceHolder 1"/>
          <p:cNvSpPr>
            <a:spLocks noGrp="1"/>
          </p:cNvSpPr>
          <p:nvPr>
            <p:ph type="dt" idx="4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ftr" idx="4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 type="sldNum" idx="4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B6B57-6E4C-4C9B-9442-0D6F013F00E1}" type="slidenum">
              <a:rPr b="0" lang="ar-S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2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023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B6088-0E21-43F2-B1BA-5F18A63684DF}" type="slidenum">
              <a:rPr b="0" lang="ar-S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9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080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FDB17-F973-41A9-971E-E782FFB64015}" type="slidenum">
              <a:rPr b="0" lang="ar-S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79C18-B7BD-49B5-B031-40632E8DAACF}" type="slidenum">
              <a:rPr b="0" lang="ar-SA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26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27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30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33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36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40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41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47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9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50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2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53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5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56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59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1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62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65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7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68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0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71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74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77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80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2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86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8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92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4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98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0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05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206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8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209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1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212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4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215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7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218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3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9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30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2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5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36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38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4AC48-DFEA-4908-AF91-536284CED8FB}" type="slidenum">
              <a:rPr b="0" lang="ar-SA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302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303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306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307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308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0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311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312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3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4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315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6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7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318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9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0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321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2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3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324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5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6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327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8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9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330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1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2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333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4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5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336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7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8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39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0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1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342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3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4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45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6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7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48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9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0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351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2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3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354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5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6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357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8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9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360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2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363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5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366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7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8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369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1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372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3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4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76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377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8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9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380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1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2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383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4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5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86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7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8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89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0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1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92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3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4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95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6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7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98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0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401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2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3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404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5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6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407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8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09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410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411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8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9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420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9F54B-EEE1-4405-A642-C02332974FB1}" type="slidenum">
              <a:rPr b="0" lang="ar-SA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75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79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0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81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6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488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FCB48-08D1-4F0F-B539-E47C2610858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5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536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540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1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42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47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8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49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DD66F-47C4-4B78-8BE5-BA764756F38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8A7E1-AD8B-420C-9E8F-EBAD9286FA3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8EABD-E663-4126-A23D-7724FF5923D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 type="dt" idx="25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1FD58-3A7C-4460-B3DE-51DD62963C3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9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9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9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5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9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9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7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/>
          </p:nvPr>
        </p:nvSpPr>
        <p:spPr>
          <a:xfrm>
            <a:off x="1403280" y="259920"/>
            <a:ext cx="6337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ahoma"/>
                <a:cs typeface="Monotype Koufi"/>
              </a:rPr>
              <a:t>كيف تكون مشرفاً تربوياً  مبدعا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  <a:cs typeface="Simple Outline Pat"/>
              </a:rPr>
              <a:t>محاضر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  <a:cs typeface="Andalus"/>
              </a:rPr>
              <a:t>أعدّها ويقدمها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  <a:cs typeface="Andalus"/>
              </a:rPr>
              <a:t>محمد بن حسن الشمران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  <a:cs typeface="Andalus"/>
              </a:rPr>
              <a:t>مدير إدارة الإشراف التربو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  <a:cs typeface="Andalus"/>
              </a:rPr>
              <a:t>الإدارة العامة للتعليم بالعاصمة المقدس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sh dir="r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/>
          </p:nvPr>
        </p:nvSpPr>
        <p:spPr>
          <a:xfrm>
            <a:off x="250560" y="475920"/>
            <a:ext cx="777708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631440" indent="0" algn="ct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cc00"/>
                </a:solidFill>
                <a:latin typeface="Arial Black"/>
                <a:cs typeface="Monotype Koufi"/>
              </a:rPr>
              <a:t>ثالثاً :  خصائص الإبداع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lvl="1" marL="63144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631440" indent="-242640" algn="r" rtl="1">
              <a:lnSpc>
                <a:spcPct val="90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00"/>
                </a:solidFill>
                <a:latin typeface="Arial Black"/>
                <a:cs typeface="Akhbar MT"/>
              </a:rPr>
              <a:t>القدرة على اكتشاف علاقات  جديدة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31440" indent="-242640" algn="r" rtl="1">
              <a:lnSpc>
                <a:spcPct val="90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00"/>
                </a:solidFill>
                <a:latin typeface="Arial Black"/>
                <a:cs typeface="Akhbar MT"/>
              </a:rPr>
              <a:t>القدرة على استنطاق تلك العلاقات والإفصاح عنها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31440" indent="-242640" algn="r" rtl="1">
              <a:lnSpc>
                <a:spcPct val="90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00"/>
                </a:solidFill>
                <a:latin typeface="Arial Black"/>
                <a:cs typeface="Akhbar MT"/>
              </a:rPr>
              <a:t>الربط بين العلاقات الجديدة وبين العلاقات القديمة التي سبق لغيره اكتشافها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31440" indent="-242640" algn="r" rtl="1">
              <a:lnSpc>
                <a:spcPct val="90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00"/>
                </a:solidFill>
                <a:latin typeface="Arial Black"/>
                <a:cs typeface="Akhbar MT"/>
              </a:rPr>
              <a:t>توظيف العلاقات الجديدة لتحقيق أهداف معينة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31440" indent="-242640" algn="r" rtl="1">
              <a:lnSpc>
                <a:spcPct val="90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00"/>
                </a:solidFill>
                <a:latin typeface="Arial Black"/>
                <a:cs typeface="Akhbar MT"/>
              </a:rPr>
              <a:t>الإحجام عن الأخذ عن الآخرين إلا بالقدر الذي يخدم ويحقق الإبداعية لديه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31440" indent="-242640" algn="r" rtl="1">
              <a:lnSpc>
                <a:spcPct val="90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00"/>
                </a:solidFill>
                <a:latin typeface="Arial Black"/>
                <a:cs typeface="Akhbar MT"/>
              </a:rPr>
              <a:t>القدرة على ملاحظة التناقضات والنواقص في البيئة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push dir="r"/>
    <p:sndAc>
      <p:stSnd>
        <p:snd r:embed="rId1" name="chimes.wav"/>
      </p:stSnd>
    </p:sndAc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2698560" y="333360"/>
            <a:ext cx="388908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Tahoma"/>
                <a:cs typeface="Monotype Koufi"/>
              </a:rPr>
              <a:t>صفات المبد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362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Akhbar MT"/>
              </a:rPr>
              <a:t>1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Akhbar MT"/>
              </a:rPr>
              <a:t>- صفات ذهنية 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يمتلك قدرة عالية على التفكير الإبداعي ويحب التجديد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يمتلك ذاكرة قوية في بعض الأمور ، وقادر على الإلمام بالتفاصيل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يحتاج إلى فترات تفكير طويلة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يفضل التعامل مع الأشياء المعقدة والمتنوعة والتي تحتمل أكثر من تفسير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يعتمد على الملاحظة الشديدة لكل المسارات والأساليب للموضوع الذي يهم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لديه قدرة عالية على تلخيص الأشياء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يركز على النقد البناء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  <p:sndAc>
      <p:stSnd>
        <p:snd r:embed="rId2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/>
          </p:nvPr>
        </p:nvSpPr>
        <p:spPr>
          <a:xfrm>
            <a:off x="826920" y="622080"/>
            <a:ext cx="699480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يهتم بالأشياء التي تحتمل الشك ولا يمكن التنبؤ بها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دائم التساؤل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متعدد الميول والاهتمامات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يقترح أفكاراً قد يعتبرها الآخرون غير معقولة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يتمتع بالاستقلالية في الرأي والتفكير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يسأل كثيراً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يفكر بشكل أفضل في فترات الهدوء والفراغ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بطيء في تحليل المعلومات سريع في الوصول للحل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358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r" rtl="1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Akhbar MT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Akhbar MT"/>
              </a:rPr>
              <a:t>- صفات نفسية 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قادر على التكيف بسرعة مع المتغيرات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يحب التميز بعمله ولا يحب التقليد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متفائل  بطبيعته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يعتمد على أحاسيسه ومشاعره كثيراً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لا ينهزم ولا يهرب من المشكلة بسرعة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يهتم ويتحمس لأفكاره ومشروعاته الشخصية ويتبناها ويثبت وراءها حتى ينفذها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الثقة بالنفس ، والشعور بالقدرة على تنفيذ ما يريد 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لا يستسلم بسهولة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يملك قدرة كبيرة على تحمل المسؤولية في الأمور التي يحبها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يبادر بالعمل ومستعد لبذل الجهد فيما يحب ، وذو طموح عالٍ جداً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/>
          </p:nvPr>
        </p:nvSpPr>
        <p:spPr>
          <a:xfrm>
            <a:off x="539640" y="764640"/>
            <a:ext cx="7940880" cy="525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ea typeface="Akhbar MT"/>
              </a:rPr>
              <a:t>3</a:t>
            </a:r>
            <a:r>
              <a:rPr b="1" lang="ar-SA" sz="3600" spc="-1" strike="noStrike">
                <a:solidFill>
                  <a:srgbClr val="ffffff"/>
                </a:solidFill>
                <a:latin typeface="Tahoma"/>
                <a:ea typeface="Akhbar MT"/>
              </a:rPr>
              <a:t>- صفات عملية 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  <a:cs typeface="Akhbar MT"/>
              </a:rPr>
              <a:t>لا يحبذ القيام بالأعمال الروتينية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  <a:cs typeface="Akhbar MT"/>
              </a:rPr>
              <a:t>يفضل القيام بالأعمال التي تنطوي على التحدي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  <a:cs typeface="Akhbar MT"/>
              </a:rPr>
              <a:t>يميل إلى المغامرة ويحب التجريب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  <a:cs typeface="Akhbar MT"/>
              </a:rPr>
              <a:t>قادر على التعامل مع المواقف الغامضة وحل المشكلات الصعبة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  <a:cs typeface="Akhbar MT"/>
              </a:rPr>
              <a:t>يثابر في عمله ، و يتابع أفكاره بجدية بالرغم من معارضة الآخرين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  <a:cs typeface="Akhbar MT"/>
              </a:rPr>
              <a:t>يسعى دائماً لتحسين عمله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  <a:cs typeface="Akhbar MT"/>
              </a:rPr>
              <a:t>يتساءل عن تطبيقات النظريات والمبادئ القائمة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Akhbar MT"/>
              </a:rPr>
              <a:t>3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Akhbar MT"/>
              </a:rPr>
              <a:t>- صفات إنسانية 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حساس ولديه روح الدعابة والفكاهة في ضوء ما تمليه الأخلاق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مهذب ولكنه صريح ومستقل ولا يحبذ السلطة أو التسلط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قادر على مقاومة ضغوط الجماعة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يعمل حتى لو قاومه الآخرون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يحب الثناء والمدح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شجاع ومقدام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الانفتاح على التجارب الإنسانية والمحيط الخارجي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يشعر بقدر كبير من الغبطة والسرور عندما يمارس العمل الذي يبدع فيه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صبور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ff9900"/>
                </a:solidFill>
                <a:latin typeface="Arial"/>
                <a:cs typeface="Monotype Koufi"/>
              </a:rPr>
              <a:t>شروط الإبداع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68680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 algn="r" rtl="1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Verdana"/>
                <a:cs typeface="Akhbar MT"/>
              </a:rPr>
              <a:t>الأصالة : أي قدرة الفرد على توليد أفكار جديدة 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236520" indent="-236520" algn="r" rtl="1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Verdana"/>
                <a:cs typeface="Akhbar MT"/>
              </a:rPr>
              <a:t>الطلاقة : أي قدرة الفرد على إنتاج كمية كبيرة من الأفكار </a:t>
            </a:r>
            <a:r>
              <a:rPr b="1" lang="ar-SA" sz="4000" spc="-1" strike="noStrike">
                <a:solidFill>
                  <a:srgbClr val="ffff00"/>
                </a:solidFill>
                <a:latin typeface="Verdana"/>
                <a:ea typeface="Akhbar MT"/>
              </a:rPr>
              <a:t>	</a:t>
            </a:r>
            <a:r>
              <a:rPr b="1" lang="ar-SA" sz="4000" spc="-1" strike="noStrike">
                <a:solidFill>
                  <a:srgbClr val="ffff00"/>
                </a:solidFill>
                <a:latin typeface="Verdana"/>
                <a:ea typeface="Akhbar MT"/>
              </a:rPr>
              <a:t>	</a:t>
            </a:r>
            <a:r>
              <a:rPr b="1" lang="ar-SA" sz="4000" spc="-1" strike="noStrike">
                <a:solidFill>
                  <a:srgbClr val="ffff00"/>
                </a:solidFill>
                <a:latin typeface="Verdana"/>
                <a:ea typeface="Akhbar MT"/>
              </a:rPr>
              <a:t>	</a:t>
            </a:r>
            <a:r>
              <a:rPr b="1" lang="ar-SA" sz="4000" spc="-1" strike="noStrike">
                <a:solidFill>
                  <a:srgbClr val="ffff00"/>
                </a:solidFill>
                <a:latin typeface="Verdana"/>
                <a:cs typeface="Akhbar MT"/>
              </a:rPr>
              <a:t>في وقت محدد ( بنك القدرة الإبداعية )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236520" indent="-236520" algn="r" rtl="1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Verdana"/>
                <a:cs typeface="Akhbar MT"/>
              </a:rPr>
              <a:t>المرونة : أي تنوع الأفكار ( تتعلق بالكيف وليس بالكم )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236520" indent="-236520" algn="r" rtl="1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Verdana"/>
                <a:cs typeface="Akhbar MT"/>
              </a:rPr>
              <a:t>الحساسية : القدرة على تحسس المشكلات وإدراك طبيعتها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236520" indent="-236520" algn="r" rtl="1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Verdana"/>
                <a:cs typeface="Akhbar MT"/>
              </a:rPr>
              <a:t>الاستنباطية : القدرة على الربط بين الأفكار في الوقت ذاته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98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98" fill="hold"/>
                                        <p:tgtEl>
                                          <p:spTgt spid="1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898" fill="hold"/>
                                        <p:tgtEl>
                                          <p:spTgt spid="1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98" fill="hold"/>
                                        <p:tgtEl>
                                          <p:spTgt spid="1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898" fill="hold"/>
                                        <p:tgtEl>
                                          <p:spTgt spid="1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898" fill="hold"/>
                                        <p:tgtEl>
                                          <p:spTgt spid="1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ee941c"/>
                </a:solidFill>
                <a:latin typeface="Arial"/>
                <a:cs typeface="Monotype Koufi"/>
              </a:rPr>
              <a:t>تجاوز المعوقات ومواجهة التحديات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2104560" y="1676160"/>
            <a:ext cx="591516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khbar MT"/>
              </a:rPr>
              <a:t>1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khbar MT"/>
              </a:rPr>
              <a:t>- احذر من الإيحاءات السلبية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Akhbar MT"/>
              </a:rPr>
              <a:t>أنا طاقتي محدودة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Akhbar MT"/>
              </a:rPr>
              <a:t>أنا رأيي غير مسموع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Akhbar MT"/>
              </a:rPr>
              <a:t>أنا لا أستطيع مقاومة التيار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Akhbar MT"/>
              </a:rPr>
              <a:t>أنا من النوع الذي يطبق الأوامر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Akhbar MT"/>
              </a:rPr>
              <a:t>أخاف الإحراج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  <p:sndAc>
      <p:stSnd>
        <p:snd r:embed="rId7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/>
          </p:nvPr>
        </p:nvSpPr>
        <p:spPr>
          <a:xfrm>
            <a:off x="2123640" y="836640"/>
            <a:ext cx="54104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khbar MT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khbar MT"/>
              </a:rPr>
              <a:t>- عالج نفسك بنفسك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Akhbar MT"/>
              </a:rPr>
              <a:t>ما هي طاقتي أو ميولي أو هوايت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Akhbar MT"/>
              </a:rPr>
              <a:t>كيف أستمتع بوقت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r" rtl="1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Akhbar MT"/>
              </a:rPr>
              <a:t>توجه إلى إنسان تثق به للاستشارة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r" rtl="1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Akhbar MT"/>
              </a:rPr>
              <a:t>ما هي إيجابياتي وسلبيات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r" rtl="1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Akhbar MT"/>
              </a:rPr>
              <a:t>شجع نفسك وكافئها على ما أنجزت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r" rtl="1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Akhbar MT"/>
              </a:rPr>
              <a:t>لا تسخر من نفسك ، ولا تقلل من عملك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r" rtl="1"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Akhbar MT"/>
              </a:rPr>
              <a:t>لا تحكم بسرعة على الأمور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  <p:sndAc>
      <p:stSnd>
        <p:snd r:embed="rId9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/>
          </p:nvPr>
        </p:nvSpPr>
        <p:spPr>
          <a:xfrm>
            <a:off x="755640" y="549360"/>
            <a:ext cx="728352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khbar MT"/>
              </a:rPr>
              <a:t>3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khbar MT"/>
              </a:rPr>
              <a:t>- تعلم أساليب قتل الأفكار ... كي تتجنبها ( كن إيجابياً ومتفائلاً 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606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khbar MT"/>
              </a:rPr>
              <a:t>4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khbar MT"/>
              </a:rPr>
              <a:t>- عود نفسك أن تساهم بفكرة ولو كانت صغيرة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606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khbar MT"/>
              </a:rPr>
              <a:t>5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khbar MT"/>
              </a:rPr>
              <a:t>- درب نفسك على تحريك خيالك باستمرار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606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khbar MT"/>
              </a:rPr>
              <a:t>6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khbar MT"/>
              </a:rPr>
              <a:t>- لا تحرم نفسك لذة التفكير واستخدام طاقة عقلك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606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khbar MT"/>
              </a:rPr>
              <a:t>7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khbar MT"/>
              </a:rPr>
              <a:t>- واصل التحدي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cc00"/>
                </a:solidFill>
                <a:latin typeface="Arial"/>
                <a:cs typeface="Monotype Koufi"/>
              </a:rPr>
              <a:t>أولاً مفهوم الإبداع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ar-SA" sz="3200" spc="-1" strike="noStrike">
                <a:solidFill>
                  <a:srgbClr val="e3e3ff"/>
                </a:solidFill>
                <a:latin typeface="Arial"/>
                <a:cs typeface="Akhbar MT"/>
              </a:rPr>
              <a:t>قال الله تعالى :</a:t>
            </a:r>
            <a:br>
              <a:rPr sz="3200"/>
            </a:br>
            <a:r>
              <a:rPr b="1" lang="ar-SA" sz="3600" spc="-1" strike="noStrike">
                <a:solidFill>
                  <a:srgbClr val="e3e3ff"/>
                </a:solidFill>
                <a:latin typeface="Arial"/>
                <a:ea typeface="Akhbar MT"/>
              </a:rPr>
              <a:t>- (بديع السموات والأرض )</a:t>
            </a:r>
            <a:r>
              <a:rPr b="1" lang="ar-SA" sz="3200" spc="-1" strike="noStrike">
                <a:solidFill>
                  <a:srgbClr val="e3e3ff"/>
                </a:solidFill>
                <a:latin typeface="Arial"/>
                <a:ea typeface="Akhbar MT"/>
              </a:rPr>
              <a:t>	</a:t>
            </a:r>
            <a:br>
              <a:rPr sz="3200"/>
            </a:br>
            <a:r>
              <a:rPr b="1" lang="ar-SA" sz="3200" spc="-1" strike="noStrike">
                <a:solidFill>
                  <a:srgbClr val="e3e3ff"/>
                </a:solidFill>
                <a:latin typeface="Arial"/>
                <a:ea typeface="Akhbar MT"/>
              </a:rPr>
              <a:t>	</a:t>
            </a:r>
            <a:r>
              <a:rPr b="1" lang="ar-SA" sz="3200" spc="-1" strike="noStrike">
                <a:solidFill>
                  <a:srgbClr val="e3e3ff"/>
                </a:solidFill>
                <a:latin typeface="Arial"/>
                <a:cs typeface="Akhbar MT"/>
              </a:rPr>
              <a:t>أي موجدهم لا على مثال سبق</a:t>
            </a:r>
            <a:br>
              <a:rPr sz="3200"/>
            </a:br>
            <a:br>
              <a:rPr sz="3200"/>
            </a:br>
            <a:r>
              <a:rPr b="1" lang="ar-SA" sz="3600" spc="-1" strike="noStrike">
                <a:solidFill>
                  <a:srgbClr val="e3e3ff"/>
                </a:solidFill>
                <a:latin typeface="Arial"/>
                <a:ea typeface="Akhbar MT"/>
              </a:rPr>
              <a:t>- ( قل ما كنت بدعا من الرسل وما أدري ما يفعل بي ولا بكم )</a:t>
            </a:r>
            <a:r>
              <a:rPr b="1" lang="en-US" sz="3200" spc="-1" strike="noStrike">
                <a:solidFill>
                  <a:srgbClr val="e3e3ff"/>
                </a:solidFill>
                <a:latin typeface="Arial"/>
                <a:ea typeface="Akhbar MT"/>
              </a:rPr>
              <a:t> </a:t>
            </a:r>
            <a:r>
              <a:rPr b="1" lang="ar-SA" sz="3200" spc="-1" strike="noStrike">
                <a:solidFill>
                  <a:srgbClr val="e3e3ff"/>
                </a:solidFill>
                <a:latin typeface="Arial"/>
                <a:ea typeface="Akhbar MT"/>
              </a:rPr>
              <a:t> </a:t>
            </a:r>
            <a:br>
              <a:rPr sz="3200"/>
            </a:br>
            <a:r>
              <a:rPr b="1" lang="ar-SA" sz="3200" spc="-1" strike="noStrike">
                <a:solidFill>
                  <a:srgbClr val="e3e3ff"/>
                </a:solidFill>
                <a:latin typeface="Arial"/>
                <a:ea typeface="Akhbar MT"/>
              </a:rPr>
              <a:t>	</a:t>
            </a:r>
            <a:r>
              <a:rPr b="1" lang="ar-SA" sz="3200" spc="-1" strike="noStrike">
                <a:solidFill>
                  <a:srgbClr val="e3e3ff"/>
                </a:solidFill>
                <a:latin typeface="Arial"/>
                <a:cs typeface="Akhbar MT"/>
              </a:rPr>
              <a:t>أي ما كنت أول مرسل بل سبق قبلي كثيرون منه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7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ee941c"/>
                </a:solidFill>
                <a:latin typeface="Arial"/>
                <a:cs typeface="Monotype Koufi"/>
              </a:rPr>
              <a:t>الإشراف الإبداعي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301680" y="1703160"/>
            <a:ext cx="8540640" cy="40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9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هو ذلك النوع الذي لا يقتصر على مجرد نتاج الأحسن ، وتقديم أعلى نوع من النشاط  الجمعي ، وإنما هو حفز الهمم ، وتحريك القدرات لدى المشرف لتخريج أحسن ما لديه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spcBef>
                <a:spcPts val="9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أي أن هذا النوع يعمل على استثمار قدرات المعلمين وإمكاناتهم العلمية والمهنية وإلى أقصى حد ممكن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ee941c"/>
                </a:solidFill>
                <a:latin typeface="Arial"/>
                <a:cs typeface="Monotype Koufi"/>
              </a:rPr>
              <a:t>صفات المشرف التربوي المبدع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 algn="r" rtl="1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  <a:cs typeface="Akhbar MT"/>
              </a:rPr>
              <a:t>مرونة التفكي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r" rtl="1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  <a:cs typeface="Akhbar MT"/>
              </a:rPr>
              <a:t>الصبر واللباق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r" rtl="1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  <a:cs typeface="Akhbar MT"/>
              </a:rPr>
              <a:t>الثقة بقدراته المهنية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r" rtl="1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  <a:cs typeface="Akhbar MT"/>
              </a:rPr>
              <a:t>الرغبة في الاستفادة من تجارب وخبرات الآخري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r" rtl="1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  <a:cs typeface="Akhbar MT"/>
              </a:rPr>
              <a:t>الإيمان بقدرات الآخري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r" rtl="1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  <a:cs typeface="Akhbar MT"/>
              </a:rPr>
              <a:t>الرؤية الواضحة للأهداف التربوية ، والاستعداد للسير إلى أفضل السبل الموصلة لها 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 rtl="1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800" spc="-1" strike="noStrike">
                <a:solidFill>
                  <a:srgbClr val="ffffff"/>
                </a:solidFill>
                <a:latin typeface="Tahoma"/>
                <a:cs typeface="PT Bold Dusky"/>
              </a:rPr>
              <a:t>الإبداع :  فطري    ؟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r" rtl="1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ct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0" spc="-1" strike="noStrike">
                <a:solidFill>
                  <a:srgbClr val="ffffff"/>
                </a:solidFill>
                <a:latin typeface="Tahoma"/>
                <a:cs typeface="PT Bold Dusky"/>
              </a:rPr>
              <a:t>الإبداع : مكتسب  ؟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 rtl="1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 rtl="1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0" spc="-1" strike="noStrike">
                <a:solidFill>
                  <a:srgbClr val="ff9900"/>
                </a:solidFill>
                <a:latin typeface="Garamond"/>
                <a:cs typeface="Monotype Koufi"/>
              </a:rPr>
              <a:t>شكراً لإتاحة الفرصة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 rtl="1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-1" strike="noStrike">
                <a:solidFill>
                  <a:srgbClr val="ff9900"/>
                </a:solidFill>
                <a:latin typeface="Garamond"/>
                <a:cs typeface="Monotype Koufi"/>
              </a:rPr>
              <a:t>و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 rtl="1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-1" strike="noStrike">
                <a:solidFill>
                  <a:srgbClr val="ff9900"/>
                </a:solidFill>
                <a:latin typeface="Garamond"/>
                <a:cs typeface="Monotype Koufi"/>
              </a:rPr>
              <a:t>لحسن الإنصات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push dir="r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/>
          </p:nvPr>
        </p:nvSpPr>
        <p:spPr>
          <a:xfrm>
            <a:off x="250560" y="2420640"/>
            <a:ext cx="6769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 Black"/>
                <a:ea typeface="Akhbar MT"/>
              </a:rPr>
              <a:t>	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52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Arial Black"/>
                <a:cs typeface="Akhbar MT"/>
              </a:rPr>
              <a:t>مفهوم الإبداع 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5280" indent="-305280" algn="r" rtl="1">
              <a:lnSpc>
                <a:spcPct val="8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Arial Black"/>
                <a:ea typeface="Akhbar MT"/>
              </a:rPr>
              <a:t> عملية الإتيان بجديد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5280" indent="-305280" algn="r" rtl="1">
              <a:lnSpc>
                <a:spcPct val="8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Arial Black"/>
                <a:ea typeface="Akhbar MT"/>
              </a:rPr>
              <a:t> القدرة على حل المشكلات بأساليب جديدة تعجب السامع والمشاهد 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5280" indent="-305280" algn="r" rtl="1">
              <a:lnSpc>
                <a:spcPct val="8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Arial Black"/>
                <a:ea typeface="Akhbar MT"/>
              </a:rPr>
              <a:t>  تنظيم الأفكار وظهورها في بناء جديد انطلاقاً من عناصر موجودة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5280" indent="-305280" algn="r" rtl="1">
              <a:lnSpc>
                <a:spcPct val="8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Arial Black"/>
                <a:ea typeface="Akhbar MT"/>
              </a:rPr>
              <a:t>  القدرة على تكوين تركيبات أو تنظيمات جديدة</a:t>
            </a:r>
            <a:r>
              <a:rPr b="0" lang="ar-SA" sz="3200" spc="-1" strike="noStrike">
                <a:solidFill>
                  <a:srgbClr val="ffffff"/>
                </a:solidFill>
                <a:latin typeface="Arial Black"/>
                <a:ea typeface="Akhbar MT"/>
              </a:rPr>
              <a:t>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9" name=""/>
          <p:cNvSpPr/>
          <p:nvPr/>
        </p:nvSpPr>
        <p:spPr>
          <a:xfrm>
            <a:off x="324000" y="3087720"/>
            <a:ext cx="748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324000" y="347760"/>
            <a:ext cx="684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rial"/>
                <a:cs typeface="Akhbar MT"/>
              </a:rPr>
              <a:t>في اللغة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khbar MT"/>
              </a:rPr>
              <a:t>   أبدعت الشيء :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khbar MT"/>
              </a:rPr>
              <a:t>   اخترعته على غير مثال ساب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rial"/>
                <a:cs typeface="Akhbar MT"/>
              </a:rPr>
              <a:t>والمبدع :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khbar MT"/>
              </a:rPr>
              <a:t>   هو المنشئ أو المحدث لأمر لم يسبقه إليه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khbar MT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khbar MT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khbar MT"/>
              </a:rPr>
              <a:t>     أحد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  <p:sndAc>
      <p:stSnd>
        <p:snd r:embed="rId1" name="chimes.wav"/>
      </p:stSnd>
    </p:sndAc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e103"/>
                </a:solidFill>
                <a:latin typeface="Arial Black"/>
                <a:cs typeface="PT Bold Stars"/>
              </a:rPr>
              <a:t>مصطلحات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4978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400" spc="-1" strike="noStrike">
                <a:solidFill>
                  <a:srgbClr val="ffcc00"/>
                </a:solidFill>
                <a:latin typeface="Arial Black"/>
                <a:cs typeface="Akhbar MT"/>
              </a:rPr>
              <a:t>الخيال : هو التصور أو التوهم لشيء غير موجود 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  <a:ea typeface="Akhbar MT"/>
              </a:rPr>
              <a:t>(أول خطوات الإبداع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257040" indent="-257040" algn="r" rtl="1">
              <a:spcBef>
                <a:spcPts val="85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400" spc="-1" strike="noStrike">
                <a:solidFill>
                  <a:srgbClr val="ffcc00"/>
                </a:solidFill>
                <a:latin typeface="Arial Black"/>
                <a:cs typeface="Akhbar MT"/>
              </a:rPr>
              <a:t>الابتكار : هو الإبداع </a:t>
            </a:r>
            <a:endParaRPr b="0" lang="en-US" sz="3400" spc="-1" strike="noStrike">
              <a:solidFill>
                <a:srgbClr val="ffcc00"/>
              </a:solidFill>
              <a:latin typeface="Arial Black"/>
            </a:endParaRPr>
          </a:p>
          <a:p>
            <a:pPr marL="257040" indent="-257040" algn="r" rtl="1">
              <a:spcBef>
                <a:spcPts val="85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400" spc="-1" strike="noStrike">
                <a:solidFill>
                  <a:srgbClr val="ffcc00"/>
                </a:solidFill>
                <a:latin typeface="Arial Black"/>
                <a:cs typeface="Akhbar MT"/>
              </a:rPr>
              <a:t>الاختراع : الإبداع العلمي ( طائرة ، كمبيوتر ، صاروخ ، ....)</a:t>
            </a:r>
            <a:endParaRPr b="0" lang="en-US" sz="3400" spc="-1" strike="noStrike">
              <a:solidFill>
                <a:srgbClr val="ffcc00"/>
              </a:solidFill>
              <a:latin typeface="Arial Black"/>
            </a:endParaRPr>
          </a:p>
          <a:p>
            <a:pPr marL="257040" indent="-257040" algn="r" rtl="1">
              <a:spcBef>
                <a:spcPts val="85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400" spc="-1" strike="noStrike">
                <a:solidFill>
                  <a:srgbClr val="ffcc00"/>
                </a:solidFill>
                <a:latin typeface="Arial Black"/>
                <a:cs typeface="Akhbar MT"/>
              </a:rPr>
              <a:t>الاكتشاف : كشف شيء موجود في الطبيعة وكيفية استعماله وتصنيعه </a:t>
            </a:r>
            <a:r>
              <a:rPr b="1" lang="en-US" sz="3400" spc="-1" strike="noStrike">
                <a:solidFill>
                  <a:srgbClr val="ffcc00"/>
                </a:solidFill>
                <a:latin typeface="Arial Black"/>
                <a:ea typeface="Akhbar MT"/>
              </a:rPr>
              <a:t>	</a:t>
            </a:r>
            <a:r>
              <a:rPr b="1" lang="en-US" sz="3400" spc="-1" strike="noStrike">
                <a:solidFill>
                  <a:srgbClr val="ffcc00"/>
                </a:solidFill>
                <a:latin typeface="Arial Black"/>
                <a:ea typeface="Akhbar MT"/>
              </a:rPr>
              <a:t>	</a:t>
            </a:r>
            <a:r>
              <a:rPr b="1" lang="en-US" sz="3400" spc="-1" strike="noStrike">
                <a:solidFill>
                  <a:srgbClr val="ffcc00"/>
                </a:solidFill>
                <a:latin typeface="Arial Black"/>
                <a:ea typeface="Akhbar MT"/>
              </a:rPr>
              <a:t>( المغناطيس، الكهرباء ، .....)</a:t>
            </a:r>
            <a:endParaRPr b="0" lang="en-US" sz="3400" spc="-1" strike="noStrike">
              <a:solidFill>
                <a:srgbClr val="ffcc00"/>
              </a:solidFill>
              <a:latin typeface="Arial Black"/>
            </a:endParaRPr>
          </a:p>
          <a:p>
            <a:pPr marL="257040" indent="-257040" algn="r" rtl="1">
              <a:spcBef>
                <a:spcPts val="85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400" spc="-1" strike="noStrike">
                <a:solidFill>
                  <a:srgbClr val="ffcc00"/>
                </a:solidFill>
                <a:latin typeface="Arial Black"/>
                <a:cs typeface="Akhbar MT"/>
              </a:rPr>
              <a:t>الذكاء : سرعة الفهم والاستنتاج</a:t>
            </a:r>
            <a:endParaRPr b="0" lang="en-US" sz="3400" spc="-1" strike="noStrike">
              <a:solidFill>
                <a:srgbClr val="ffcc00"/>
              </a:solidFill>
              <a:latin typeface="Arial Black"/>
            </a:endParaRPr>
          </a:p>
          <a:p>
            <a:pPr marL="257040" indent="-257040" algn="r" rtl="1">
              <a:spcBef>
                <a:spcPts val="85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400" spc="-1" strike="noStrike">
                <a:solidFill>
                  <a:srgbClr val="ffcc00"/>
                </a:solidFill>
                <a:latin typeface="Arial Black"/>
                <a:cs typeface="Akhbar MT"/>
              </a:rPr>
              <a:t>الموهبة : قدرة خاصة تجعل المرء يتقن في مجال الموهبة </a:t>
            </a:r>
            <a:endParaRPr b="0" lang="en-US" sz="3400" spc="-1" strike="noStrike">
              <a:solidFill>
                <a:srgbClr val="ffcc00"/>
              </a:solidFill>
              <a:latin typeface="Arial Black"/>
            </a:endParaRPr>
          </a:p>
          <a:p>
            <a:pPr marL="257040" indent="-257040" algn="r" rtl="1">
              <a:spcBef>
                <a:spcPts val="85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400" spc="-1" strike="noStrike">
                <a:solidFill>
                  <a:srgbClr val="ffcc00"/>
                </a:solidFill>
                <a:latin typeface="Arial Black"/>
                <a:cs typeface="Akhbar MT"/>
              </a:rPr>
              <a:t>الموهوب ، والعبقري ، والمتفوق عقلياً : صفات لمن نسب ذكائهم عالية</a:t>
            </a:r>
            <a:endParaRPr b="0" lang="en-US" sz="3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push dir="r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899640" y="765000"/>
            <a:ext cx="6696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03"/>
                </a:solidFill>
                <a:latin typeface="Arial Black"/>
                <a:ea typeface="Akhbar MT"/>
              </a:rPr>
              <a:t>	</a:t>
            </a:r>
            <a:r>
              <a:rPr b="1" lang="hi-IN" sz="4800" spc="-1" strike="noStrike">
                <a:solidFill>
                  <a:srgbClr val="ffcc00"/>
                </a:solidFill>
                <a:latin typeface="Arial Black"/>
                <a:cs typeface="Monotype Koufi"/>
              </a:rPr>
              <a:t>ثانياً : دوافع الإبداع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 </a:t>
            </a:r>
            <a:br>
              <a:rPr sz="4400"/>
            </a:br>
            <a:br>
              <a:rPr sz="3600"/>
            </a:br>
            <a:r>
              <a:rPr b="1" lang="hi-IN" sz="4400" spc="-1" strike="noStrike">
                <a:solidFill>
                  <a:srgbClr val="ffe103"/>
                </a:solidFill>
                <a:latin typeface="Arial Black"/>
                <a:cs typeface="Akhbar MT"/>
              </a:rPr>
              <a:t>يمكن تصنيف هذه الدوافع إلى ما يلي :</a:t>
            </a:r>
            <a:br>
              <a:rPr sz="4400"/>
            </a:br>
            <a:r>
              <a:rPr b="1" lang="en-US" sz="4400" spc="-1" strike="noStrike">
                <a:solidFill>
                  <a:srgbClr val="ffe103"/>
                </a:solidFill>
                <a:latin typeface="Arial Black"/>
                <a:ea typeface="Akhbar MT"/>
              </a:rPr>
              <a:t>	</a:t>
            </a:r>
            <a:r>
              <a:rPr b="1" lang="en-US" sz="4400" spc="-1" strike="noStrike">
                <a:solidFill>
                  <a:srgbClr val="ffe103"/>
                </a:solidFill>
                <a:latin typeface="Arial Black"/>
                <a:ea typeface="Akhbar MT"/>
              </a:rPr>
              <a:t>-  دوافع ذاتية داخلية</a:t>
            </a:r>
            <a:br>
              <a:rPr sz="4400"/>
            </a:br>
            <a:r>
              <a:rPr b="1" lang="en-US" sz="4400" spc="-1" strike="noStrike">
                <a:solidFill>
                  <a:srgbClr val="ffe103"/>
                </a:solidFill>
                <a:latin typeface="Arial Black"/>
                <a:ea typeface="Akhbar MT"/>
              </a:rPr>
              <a:t>	</a:t>
            </a:r>
            <a:r>
              <a:rPr b="1" lang="en-US" sz="4400" spc="-1" strike="noStrike">
                <a:solidFill>
                  <a:srgbClr val="ffe103"/>
                </a:solidFill>
                <a:latin typeface="Arial Black"/>
                <a:ea typeface="Akhbar MT"/>
              </a:rPr>
              <a:t>- دوافع بيئية خارجية</a:t>
            </a:r>
            <a:br>
              <a:rPr sz="4400"/>
            </a:br>
            <a:r>
              <a:rPr b="1" lang="en-US" sz="4400" spc="-1" strike="noStrike">
                <a:solidFill>
                  <a:srgbClr val="ffe103"/>
                </a:solidFill>
                <a:latin typeface="Arial Black"/>
                <a:ea typeface="Akhbar MT"/>
              </a:rPr>
              <a:t>	</a:t>
            </a:r>
            <a:r>
              <a:rPr b="1" lang="en-US" sz="4400" spc="-1" strike="noStrike">
                <a:solidFill>
                  <a:srgbClr val="ffe103"/>
                </a:solidFill>
                <a:latin typeface="Arial Black"/>
                <a:ea typeface="Akhbar MT"/>
              </a:rPr>
              <a:t>- دوافع مادية ومعنوية</a:t>
            </a:r>
            <a:br>
              <a:rPr sz="4400"/>
            </a:br>
            <a:r>
              <a:rPr b="1" lang="en-US" sz="4400" spc="-1" strike="noStrike">
                <a:solidFill>
                  <a:srgbClr val="ffe103"/>
                </a:solidFill>
                <a:latin typeface="Arial Black"/>
                <a:ea typeface="Akhbar MT"/>
              </a:rPr>
              <a:t>	</a:t>
            </a:r>
            <a:r>
              <a:rPr b="1" lang="en-US" sz="4400" spc="-1" strike="noStrike">
                <a:solidFill>
                  <a:srgbClr val="ffe103"/>
                </a:solidFill>
                <a:latin typeface="Arial Black"/>
                <a:ea typeface="Akhbar MT"/>
              </a:rPr>
              <a:t>- دوافع خاصة بالعمل الإبداعية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4" name=""/>
          <p:cNvSpPr/>
          <p:nvPr/>
        </p:nvSpPr>
        <p:spPr>
          <a:xfrm>
            <a:off x="324000" y="3213000"/>
            <a:ext cx="8424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  <p:sndAc>
      <p:stSnd>
        <p:snd r:embed="rId1" name="chimes.wav"/>
      </p:stSnd>
    </p:sndAc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/>
          </p:nvPr>
        </p:nvSpPr>
        <p:spPr>
          <a:xfrm>
            <a:off x="250560" y="2349360"/>
            <a:ext cx="78469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  <a:ea typeface="Andalus"/>
              </a:rPr>
              <a:t>1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  <a:ea typeface="Andalus"/>
              </a:rPr>
              <a:t>- الدوافع الذاتية الداخلية :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lvl="1" marL="586800" indent="-225720" algn="r" rtl="1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  <a:ea typeface="Akhbar MT"/>
              </a:rPr>
              <a:t> الحماس في تحقيق الأهداف الشخصية ( يكون مفيداً للمجتمع )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586800" indent="-225720" algn="r" rtl="1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  <a:ea typeface="Akhbar MT"/>
              </a:rPr>
              <a:t> الرغبة في تقديم مساهمة مبتكرة وقيمة وصياغة جديدة مبتكرة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586800" indent="-225720" algn="r" rtl="1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  <a:ea typeface="Akhbar MT"/>
              </a:rPr>
              <a:t> الرغبة في معالجة الأشياء الغامضة والمعقدة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586800" indent="-225720" algn="r" rtl="1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  <a:ea typeface="Akhbar MT"/>
              </a:rPr>
              <a:t> الرغبة في تجريب أكثر في مجال العمل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586800" indent="-225720" algn="r" rtl="1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  <a:ea typeface="Akhbar MT"/>
              </a:rPr>
              <a:t> الحصول على رضا النفس وتحقيق الذات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/>
          </p:nvPr>
        </p:nvSpPr>
        <p:spPr>
          <a:xfrm>
            <a:off x="611280" y="2122560"/>
            <a:ext cx="726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  <a:ea typeface="Andalus"/>
              </a:rPr>
              <a:t>2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  <a:ea typeface="Andalus"/>
              </a:rPr>
              <a:t>-  الدوافع البيئية الخارجية :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lvl="1" marL="594360" indent="-228600" algn="r" rtl="1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00"/>
                </a:solidFill>
                <a:latin typeface="Arial Black"/>
                <a:cs typeface="Akhbar MT"/>
              </a:rPr>
              <a:t>الحاجة إليه في مجالات العمل المختلفة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594360" indent="-228600" algn="r" rtl="1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00"/>
                </a:solidFill>
                <a:latin typeface="Arial Black"/>
                <a:cs typeface="Akhbar MT"/>
              </a:rPr>
              <a:t>الحيوية والنمو يحتاجان إلى ومضة الإبداع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594360" indent="-228600" algn="r" rtl="1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00"/>
                </a:solidFill>
                <a:latin typeface="Arial Black"/>
                <a:cs typeface="Akhbar MT"/>
              </a:rPr>
              <a:t>التصدي للمشكلات العامة والخاصة يتطلب الإبداع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594360" indent="-228600" algn="r" rtl="1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00"/>
                </a:solidFill>
                <a:latin typeface="Arial Black"/>
                <a:cs typeface="Akhbar MT"/>
              </a:rPr>
              <a:t>إننا في عالم سريع التغير ويحتاج إلى صنع الأحداث بطريقة إبداعية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594360" indent="-228600" algn="r" rtl="1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00"/>
                </a:solidFill>
                <a:latin typeface="Arial Black"/>
                <a:cs typeface="Akhbar MT"/>
              </a:rPr>
              <a:t>إن التقدم والازدهار مرتبطان بقدراتنا الإبداعية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743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push dir="r"/>
    <p:sndAc>
      <p:stSnd>
        <p:snd r:embed="rId1" name="chimes.wav"/>
      </p:stSnd>
    </p:sndAc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/>
          </p:nvPr>
        </p:nvSpPr>
        <p:spPr>
          <a:xfrm>
            <a:off x="1258920" y="1341360"/>
            <a:ext cx="597384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  <a:ea typeface="Andalus"/>
              </a:rPr>
              <a:t>3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  <a:ea typeface="Andalus"/>
              </a:rPr>
              <a:t>- الدوافع المادية والمعنوية :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lvl="1" marL="549720" indent="-211320" algn="r" rtl="1">
              <a:lnSpc>
                <a:spcPct val="90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00"/>
                </a:solidFill>
                <a:latin typeface="Arial Black"/>
                <a:cs typeface="Akhbar MT"/>
              </a:rPr>
              <a:t>الحصول على مكافآت مالية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549720" indent="-211320" algn="r" rtl="1">
              <a:lnSpc>
                <a:spcPct val="90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00"/>
                </a:solidFill>
                <a:latin typeface="Arial Black"/>
                <a:cs typeface="Akhbar MT"/>
              </a:rPr>
              <a:t>الحصول على تقدير وثناء وسمعة وشهرة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549720" indent="-211320" algn="r" rtl="1">
              <a:lnSpc>
                <a:spcPct val="90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00"/>
                </a:solidFill>
                <a:latin typeface="Arial Black"/>
                <a:cs typeface="Akhbar MT"/>
              </a:rPr>
              <a:t>الحصول على مرتبة علمية مرموقة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549720" indent="-211320" algn="r" rtl="1">
              <a:lnSpc>
                <a:spcPct val="90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00"/>
                </a:solidFill>
                <a:latin typeface="Arial Black"/>
                <a:cs typeface="Akhbar MT"/>
              </a:rPr>
              <a:t>الحصول على درجة وظيفية متقدمة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549720" indent="-211320" algn="r" rtl="1">
              <a:lnSpc>
                <a:spcPct val="90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00"/>
                </a:solidFill>
                <a:latin typeface="Arial Black"/>
                <a:cs typeface="Akhbar MT"/>
              </a:rPr>
              <a:t>الحصول على قبول الناس ورضاهم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549720" indent="-211320" algn="r" rtl="1">
              <a:lnSpc>
                <a:spcPct val="90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00"/>
                </a:solidFill>
                <a:latin typeface="Arial Black"/>
                <a:cs typeface="Akhbar MT"/>
              </a:rPr>
              <a:t>خدمة الأمة أو الوطن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549720" indent="-211320" algn="r" rtl="1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00"/>
                </a:solidFill>
                <a:latin typeface="Arial Black"/>
                <a:cs typeface="Akhbar MT"/>
              </a:rPr>
              <a:t>الحصول على رضا الله سبحانه وتعالى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  <a:ea typeface="Akhbar MT"/>
              </a:rPr>
              <a:t> 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push dir="r"/>
    <p:sndAc>
      <p:stSnd>
        <p:snd r:embed="rId1" name="chimes.wav"/>
      </p:stSnd>
    </p:sndAc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/>
          </p:nvPr>
        </p:nvSpPr>
        <p:spPr>
          <a:xfrm>
            <a:off x="539640" y="2773080"/>
            <a:ext cx="6980400" cy="16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  <a:ea typeface="Andalus"/>
              </a:rPr>
              <a:t>4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  <a:ea typeface="Andalus"/>
              </a:rPr>
              <a:t> - الدوافع الخاصة بالعمل الإبداعي :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lvl="1" marL="623880" indent="-239760" algn="r" rtl="1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00"/>
                </a:solidFill>
                <a:latin typeface="Arial Black"/>
                <a:cs typeface="Akhbar MT"/>
              </a:rPr>
              <a:t>الرغبة الشديدة في إيجاد الفكرة والحصول عليها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push dir="r"/>
    <p:sndAc>
      <p:stSnd>
        <p:snd r:embed="rId1" name="chimes.wav"/>
      </p:stSnd>
    </p:sndAc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3T16:55:50Z</dcterms:created>
  <dc:creator>Compaq User</dc:creator>
  <dc:description/>
  <dc:language>en-US</dc:language>
  <cp:lastModifiedBy>O</cp:lastModifiedBy>
  <dcterms:modified xsi:type="dcterms:W3CDTF">2003-04-06T21:42:46Z</dcterms:modified>
  <cp:revision>24</cp:revision>
  <dc:subject/>
  <dc:title>الشريحة 1</dc:title>
</cp:coreProperties>
</file>